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988-2B2C-4836-9C7E-16FC3DFA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C92-BE4F-4F62-8570-D952897F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02D-B1CC-4BF1-BB9A-9C16C0F8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360-0E0B-4BDD-A07C-5F44789D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16A0-1D8B-4CD3-B298-57972775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798-DE03-48CF-80A5-309DD795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E32-33F3-4EC0-860D-798520A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D29-E8DB-487C-894E-A02D14B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9DD-9966-42F2-9C10-D658CF0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4C85-2ABE-4662-A37D-BEEAE59D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BEA-F0F6-4F00-97A2-5FA07E04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245-2F9A-4660-8450-D7ABE2A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F2E-BE2C-4DAC-816E-441E68408B4F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6429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The Taj Mah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74040" y="271476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y Chelsea Had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funonthenet.in/images/stories/forwards/Taj%20Mahal/taj-mahal.jpg"/>
          <p:cNvPicPr/>
          <p:nvPr/>
        </p:nvPicPr>
        <p:blipFill>
          <a:blip r:embed="rId1"/>
          <a:stretch/>
        </p:blipFill>
        <p:spPr>
          <a:xfrm>
            <a:off x="3714840" y="2428920"/>
            <a:ext cx="45799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729360" y="571680"/>
            <a:ext cx="50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square using the rectangle tool on sketch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6929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779760" y="85716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push/pull tool, pull up your 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119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71680" y="4287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circle tool draw a circle  make a circle on the corner of the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434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14960" y="9288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push/pull tool again pull up the circle so that it makes a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697680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69600" y="1000080"/>
            <a:ext cx="81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 use the move/copy tool and make a tower on each of the corners of you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68338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677160" y="78588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draw a square right in the middle of your big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54884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1440" y="85716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use the push/pull tool and pull up the square so that its about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as your pill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77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759960" y="785880"/>
            <a:ext cx="81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ectangle and arch tool to make the 4 windows and door on on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s. Then use the Push/pull tool and push them in a little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85880" y="199080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3:18Z</dcterms:created>
  <dc:creator>Diocesan School for Girls</dc:creator>
  <dc:description/>
  <dc:language>en-US</dc:language>
  <cp:lastModifiedBy>Diocesan School for Girls</cp:lastModifiedBy>
  <dcterms:modified xsi:type="dcterms:W3CDTF">2009-08-26T00:30:25Z</dcterms:modified>
  <cp:revision>2</cp:revision>
  <dc:subject/>
  <dc:title>Slide 1</dc:title>
</cp:coreProperties>
</file>